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4.jpeg" ContentType="image/jpeg"/>
  <Override PartName="/ppt/media/image25.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2.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B618D-82FA-4935-97EA-AADAA4001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FDFB1-8930-4501-8F9B-6DAFD968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3DE81-64FD-49F0-93E8-0E75912EB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E5987-48A0-44EE-95AF-07B394413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1B6AB-0792-4943-B56A-04AA93DC2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0BDD7-3AF8-4C70-8B7C-A33447D89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847F8-F833-43A8-B380-92CF3DB74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8D9BE-A022-45C4-84CC-A0A8D1670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93422-2EB9-4624-B77B-502DE9629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1199F-FF38-476E-AF06-3BD5B7C2E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BD8F3-E63A-46AB-8E8E-C524E0190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75E8F-5F81-4C1B-82E3-A1FD25A46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901C0-A397-41B6-833E-A6DFC2FBB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EC579-09EA-4686-9876-B0D5537B1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4C7F4-D98E-42A1-A429-A339D4CCF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CCB47-84A5-4611-A787-9DCA4F5FE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B9943-53DB-4D5B-95AE-145B2FAE2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BFC71-16DD-42D3-8E09-9FD173929F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847638-1418-463B-922D-4461C2E85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88F7A-7D43-44F9-922B-8B20DCECB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2D206-30C0-4CC0-BF52-BBFC0A67E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FC968-9BA1-434C-8C1B-43A86EF2A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403A5-BC3B-410A-97E4-E15AA68D6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4F681-2668-4AF8-A797-28DE56A37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7A575-D1FD-471B-8F79-140ACABF0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69D74-C5EF-4228-A2E9-1B9B4718E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48829-BDD4-458E-8D2A-CDAA3A7ED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2C4D9-F96D-409C-AEFE-58A11F35F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23AB9E-7A0F-4E4F-A88D-E385D894F6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C9C48-9A37-4C1C-9510-74E77301F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873659-1C9E-4738-B562-28D6B5622E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DAB6C-767A-490F-8990-64981DF58B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CDF2FF-5A14-4852-A51B-D50E0504F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A26D-3972-4B6C-9233-D393DE89E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5A759-E2AD-4A11-931B-637936C94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673F6-F85A-4694-8D7E-EDC30192D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B795A9-D62E-4C53-BE37-FF11E21FA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C535B-3771-45C6-9EBF-BB64E9514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D0821-4403-4E25-8289-3CF312755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0760D-C1E9-4D20-9AA0-3F62A3798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D5288-06AB-4085-A830-EC36792C4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CA20B1-01F9-4D4D-AE42-0B17C9BBB5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85BE0F-A034-499D-BAF5-2E9145D594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2D5F-ED97-4742-9E7C-6859C472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7BBF9-A904-4D80-B1E7-1194FFDE5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6D3E0-1785-41C0-B7E3-26124A04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552C-22C9-4BFE-8CAC-8C4BFFBA7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2369-B57A-4BEE-BCDD-56A34989E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9EED-BB5D-428F-91EE-C6E528CB3EF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5FE6-B5AE-481F-9E3A-2EE0D46F1EF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F1F7-E749-4A31-B247-8F26E15FA32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39F6-EC54-478B-ABB9-D7D086F35F0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33160" y="152280"/>
            <a:ext cx="7848360" cy="6477120"/>
          </a:xfrm>
          <a:prstGeom prst="rect">
            <a:avLst/>
          </a:prstGeom>
          <a:noFill/>
          <a:ln w="0">
            <a:noFill/>
          </a:ln>
        </p:spPr>
        <p:txBody>
          <a:bodyPr lIns="0" rIns="18360" anchor="t">
            <a:no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1" lang="en-US" sz="1800" spc="-1" strike="noStrike">
                <a:solidFill>
                  <a:srgbClr val="ffffff"/>
                </a:solidFill>
                <a:latin typeface="Times New Roman"/>
              </a:rPr>
              <a:t>BỘ CÔNG THƯƠNG</a:t>
            </a: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ƯỜNG ĐẠI HỌC CÔNG NGHIỆP TP. HCM</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HOA HỌC MÁY TÍNH</a:t>
            </a:r>
            <a:r>
              <a:rPr b="1" lang="en-US" sz="1800" spc="-1" strike="noStrike">
                <a:solidFill>
                  <a:srgbClr val="ff00ff"/>
                </a:solidFill>
                <a:latin typeface="Times New Roman"/>
              </a:rPr>
              <a:t> </a:t>
            </a: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ĐỒ ÁN CHUYÊN NGÀNH</a:t>
            </a:r>
            <a:endParaRPr b="0" lang="en-US" sz="24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QUẢN LÝ TRUNG TÂM TIN HỌC</a:t>
            </a:r>
            <a:endParaRPr b="0" lang="en-US" sz="3600" spc="-1" strike="noStrike">
              <a:solidFill>
                <a:srgbClr val="ffffff"/>
              </a:solidFill>
              <a:latin typeface="Times New Roman"/>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RƯỜNG ĐẠI HỌC CAO ĐẲNG</a:t>
            </a:r>
            <a:endParaRPr b="0" lang="en-US" sz="3600" spc="-1" strike="noStrike">
              <a:solidFill>
                <a:srgbClr val="ffffff"/>
              </a:solidFill>
              <a:latin typeface="Times New Roman"/>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	</a:t>
            </a:r>
            <a:r>
              <a:rPr b="1" lang="en-US" sz="2600" spc="-1" strike="noStrike">
                <a:solidFill>
                  <a:srgbClr val="ffffff"/>
                </a:solidFill>
                <a:latin typeface="Times New Roman"/>
              </a:rPr>
              <a:t>	</a:t>
            </a:r>
            <a:endParaRPr b="0" lang="en-US" sz="26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iảng viên hướng dẫn : </a:t>
            </a:r>
            <a:r>
              <a:rPr b="1" lang="en-US" sz="1800" spc="-1" strike="noStrike">
                <a:solidFill>
                  <a:srgbClr val="ffffff"/>
                </a:solidFill>
                <a:latin typeface="Times New Roman"/>
              </a:rPr>
              <a:t>NGUYỄN ĐỨC CƯƠNG</a:t>
            </a:r>
            <a:r>
              <a:rPr b="1" lang="en-US" sz="2400" spc="-1" strike="noStrike">
                <a:solidFill>
                  <a:srgbClr val="0000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lớp học:</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0" name="Picture 4" descr=""/>
          <p:cNvPicPr/>
          <p:nvPr/>
        </p:nvPicPr>
        <p:blipFill>
          <a:blip r:embed="rId1"/>
          <a:stretch/>
        </p:blipFill>
        <p:spPr>
          <a:xfrm>
            <a:off x="1143000" y="1143000"/>
            <a:ext cx="731520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điểm học viê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2" name="Picture 4" descr=""/>
          <p:cNvPicPr/>
          <p:nvPr/>
        </p:nvPicPr>
        <p:blipFill>
          <a:blip r:embed="rId1"/>
          <a:stretch/>
        </p:blipFill>
        <p:spPr>
          <a:xfrm>
            <a:off x="990720" y="1600200"/>
            <a:ext cx="746748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Lược đồ sequence cho use case logi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4" name="Picture 4" descr=""/>
          <p:cNvPicPr/>
          <p:nvPr/>
        </p:nvPicPr>
        <p:blipFill>
          <a:blip r:embed="rId1"/>
          <a:stretch/>
        </p:blipFill>
        <p:spPr>
          <a:xfrm>
            <a:off x="1295280" y="1523880"/>
            <a:ext cx="6934320" cy="403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Lược đồ tuần tự cho chức năng xếp lớp</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6" name="Picture 4" descr=""/>
          <p:cNvPicPr/>
          <p:nvPr/>
        </p:nvPicPr>
        <p:blipFill>
          <a:blip r:embed="rId1"/>
          <a:stretch/>
        </p:blipFill>
        <p:spPr>
          <a:xfrm>
            <a:off x="1295280" y="1676520"/>
            <a:ext cx="716292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Lược đồ sequence cho usecase tìm kiếm</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8" name="Picture 4" descr=""/>
          <p:cNvPicPr/>
          <p:nvPr/>
        </p:nvPicPr>
        <p:blipFill>
          <a:blip r:embed="rId1"/>
          <a:stretch/>
        </p:blipFill>
        <p:spPr>
          <a:xfrm>
            <a:off x="838080" y="1523880"/>
            <a:ext cx="746784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Lược đồ tuần tự cho chức năng thống kê</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0" name="Picture 4" descr=""/>
          <p:cNvPicPr/>
          <p:nvPr/>
        </p:nvPicPr>
        <p:blipFill>
          <a:blip r:embed="rId1"/>
          <a:stretch/>
        </p:blipFill>
        <p:spPr>
          <a:xfrm>
            <a:off x="914400" y="1219320"/>
            <a:ext cx="754380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Biểu đồ cộng tác</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iểu đồ c</a:t>
            </a:r>
            <a:r>
              <a:rPr b="0" lang="en-US" sz="2600" spc="-1" strike="noStrike">
                <a:solidFill>
                  <a:srgbClr val="000000"/>
                </a:solidFill>
                <a:latin typeface="Times New Roman"/>
              </a:rPr>
              <a:t>ộ</a:t>
            </a:r>
            <a:r>
              <a:rPr b="1" lang="en-US" sz="2600" spc="-1" strike="noStrike">
                <a:solidFill>
                  <a:srgbClr val="000000"/>
                </a:solidFill>
                <a:latin typeface="Times New Roman"/>
              </a:rPr>
              <a:t>ng tác cho chức năng xếp lớp</a:t>
            </a:r>
            <a:r>
              <a:rPr b="1" lang="en-US" sz="2600" spc="-1" strike="noStrike">
                <a:solidFill>
                  <a:srgbClr val="0000ff"/>
                </a:solidFill>
                <a:latin typeface="Times New Roman"/>
              </a:rPr>
              <a:t>.</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2" name="Picture 4" descr=""/>
          <p:cNvPicPr/>
          <p:nvPr/>
        </p:nvPicPr>
        <p:blipFill>
          <a:blip r:embed="rId1"/>
          <a:stretch/>
        </p:blipFill>
        <p:spPr>
          <a:xfrm>
            <a:off x="914400" y="1828800"/>
            <a:ext cx="7315200" cy="426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iểu đồ công tác cho chức năng tìm kiếm</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4" name="Picture 4" descr=""/>
          <p:cNvPicPr/>
          <p:nvPr/>
        </p:nvPicPr>
        <p:blipFill>
          <a:blip r:embed="rId1"/>
          <a:stretch/>
        </p:blipFill>
        <p:spPr>
          <a:xfrm>
            <a:off x="838080" y="1219320"/>
            <a:ext cx="7315200" cy="464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iểu đồ công tác cho chức năng thống kê</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6" name="Picture 4" descr=""/>
          <p:cNvPicPr/>
          <p:nvPr/>
        </p:nvPicPr>
        <p:blipFill>
          <a:blip r:embed="rId1"/>
          <a:stretch/>
        </p:blipFill>
        <p:spPr>
          <a:xfrm>
            <a:off x="1219320" y="1676520"/>
            <a:ext cx="708660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iểu đồ công tác cho chức năng logi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8" name="Picture 4" descr=""/>
          <p:cNvPicPr/>
          <p:nvPr/>
        </p:nvPicPr>
        <p:blipFill>
          <a:blip r:embed="rId1"/>
          <a:stretch/>
        </p:blipFill>
        <p:spPr>
          <a:xfrm>
            <a:off x="1600200" y="1371600"/>
            <a:ext cx="716292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685800"/>
            <a:ext cx="8229600" cy="46483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TẠ THỊ NHẠN_08701684</a:t>
            </a:r>
            <a:endParaRPr b="0" lang="en-US" sz="24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CAO THỊ TÂM_08701854</a:t>
            </a:r>
            <a:endParaRPr b="0" lang="en-US" sz="2400" spc="-1" strike="noStrike">
              <a:solidFill>
                <a:srgbClr val="000000"/>
              </a:solidFill>
              <a:latin typeface="Times New Roman"/>
            </a:endParaRPr>
          </a:p>
        </p:txBody>
      </p:sp>
      <p:sp>
        <p:nvSpPr>
          <p:cNvPr id="197" name="WordArt 4"/>
          <p:cNvSpPr txBox="1"/>
          <p:nvPr/>
        </p:nvSpPr>
        <p:spPr>
          <a:xfrm rot="10800000">
            <a:off x="4190040" y="1827720"/>
            <a:ext cx="312444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HÓM SINH VIÊN THỰC HIỆN</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Lược đồ lớp</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30" name="Picture 5" descr=""/>
          <p:cNvPicPr/>
          <p:nvPr/>
        </p:nvPicPr>
        <p:blipFill>
          <a:blip r:embed="rId1"/>
          <a:stretch/>
        </p:blipFill>
        <p:spPr>
          <a:xfrm>
            <a:off x="609480" y="914400"/>
            <a:ext cx="8077320" cy="554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Mô hình dữ liệu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32" name="Picture 7" descr=""/>
          <p:cNvPicPr/>
          <p:nvPr/>
        </p:nvPicPr>
        <p:blipFill>
          <a:blip r:embed="rId1"/>
          <a:stretch/>
        </p:blipFill>
        <p:spPr>
          <a:xfrm>
            <a:off x="609480" y="662040"/>
            <a:ext cx="8001000" cy="618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Thiết kế giao diện</a:t>
            </a:r>
            <a:endParaRPr b="0" lang="en-US" sz="26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ác Menu chính</a:t>
            </a:r>
            <a:endParaRPr b="0" lang="en-US" sz="20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ản lý Trung tâm tin học gồm một số menu chính sau:</a:t>
            </a:r>
            <a:endParaRPr b="0" lang="en-US" sz="20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ệ thống:  </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o phép đăng nhập</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ăng xuất</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 đổi mật khẩu</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ới thiệu</a:t>
            </a:r>
            <a:endParaRPr b="0" lang="en-US" sz="20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4" name="Picture 4" descr=""/>
          <p:cNvPicPr/>
          <p:nvPr/>
        </p:nvPicPr>
        <p:blipFill>
          <a:blip r:embed="rId1"/>
          <a:stretch/>
        </p:blipFill>
        <p:spPr>
          <a:xfrm>
            <a:off x="1447920" y="3505320"/>
            <a:ext cx="6095880" cy="259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ập nhập</a:t>
            </a:r>
            <a:endParaRPr b="0" lang="en-US" sz="20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học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giáo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lớp học</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khoá học</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biên lai</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điểm</a:t>
            </a:r>
            <a:endParaRPr b="0" lang="en-US" sz="1800" spc="-1" strike="noStrike">
              <a:solidFill>
                <a:srgbClr val="000000"/>
              </a:solidFill>
              <a:latin typeface="Times New Roman"/>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6" name="Picture 4" descr=""/>
          <p:cNvPicPr/>
          <p:nvPr/>
        </p:nvPicPr>
        <p:blipFill>
          <a:blip r:embed="rId1"/>
          <a:stretch/>
        </p:blipFill>
        <p:spPr>
          <a:xfrm>
            <a:off x="1752480" y="2971800"/>
            <a:ext cx="571500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ìm kiếm</a:t>
            </a:r>
            <a:endParaRPr b="0" lang="en-US" sz="24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ìm kiếm học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ìm kiếm giáo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ìm kiếm điểm</a:t>
            </a:r>
            <a:endParaRPr b="0" lang="en-US" sz="1800" spc="-1" strike="noStrike">
              <a:solidFill>
                <a:srgbClr val="000000"/>
              </a:solidFill>
              <a:latin typeface="Times New Roman"/>
            </a:endParaRPr>
          </a:p>
        </p:txBody>
      </p:sp>
      <p:pic>
        <p:nvPicPr>
          <p:cNvPr id="238" name="Picture 4" descr=""/>
          <p:cNvPicPr/>
          <p:nvPr/>
        </p:nvPicPr>
        <p:blipFill>
          <a:blip r:embed="rId1"/>
          <a:stretch/>
        </p:blipFill>
        <p:spPr>
          <a:xfrm>
            <a:off x="2209680" y="2971800"/>
            <a:ext cx="487692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	</a:t>
            </a:r>
            <a:r>
              <a:rPr b="1" lang="en-US" sz="2600" spc="-1" strike="noStrike" u="sng">
                <a:solidFill>
                  <a:srgbClr val="000000"/>
                </a:solidFill>
                <a:uFillTx/>
                <a:latin typeface="Times New Roman"/>
              </a:rPr>
              <a:t>Thống kê</a:t>
            </a:r>
            <a:endParaRPr b="0" lang="en-US" sz="26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iên lai</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c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iểm</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h sách môn học</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h sách giáo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40" name="Picture 5" descr=""/>
          <p:cNvPicPr/>
          <p:nvPr/>
        </p:nvPicPr>
        <p:blipFill>
          <a:blip r:embed="rId1"/>
          <a:stretch/>
        </p:blipFill>
        <p:spPr>
          <a:xfrm>
            <a:off x="1676520" y="3352680"/>
            <a:ext cx="5867280" cy="249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Màn hình đăng nhập</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ăng nhập: Được chia làm 2 quyền là nhân viên trung tâm được phép quản lý toàn bộ hệ thống trừ việc in biên lai là dành cho bộ phận kế toán</a:t>
            </a:r>
            <a:endParaRPr b="0" lang="en-US" sz="20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42" name="Picture 4" descr=""/>
          <p:cNvPicPr/>
          <p:nvPr/>
        </p:nvPicPr>
        <p:blipFill>
          <a:blip r:embed="rId1"/>
          <a:stretch/>
        </p:blipFill>
        <p:spPr>
          <a:xfrm>
            <a:off x="1752480" y="3124080"/>
            <a:ext cx="563904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44" name="Rectangle 4"/>
          <p:cNvSpPr/>
          <p:nvPr/>
        </p:nvSpPr>
        <p:spPr>
          <a:xfrm>
            <a:off x="529560" y="289800"/>
            <a:ext cx="3332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ập nhập học viên</a:t>
            </a:r>
            <a:r>
              <a:rPr b="0" lang="en-US" sz="3200" spc="-1" strike="noStrike">
                <a:solidFill>
                  <a:srgbClr val="0000ff"/>
                </a:solidFill>
                <a:latin typeface="Times New Roman"/>
              </a:rPr>
              <a:t> </a:t>
            </a:r>
            <a:endParaRPr b="0" lang="en-US" sz="3200" spc="-1" strike="noStrike">
              <a:solidFill>
                <a:srgbClr val="000000"/>
              </a:solidFill>
              <a:latin typeface="Arial"/>
            </a:endParaRPr>
          </a:p>
        </p:txBody>
      </p:sp>
      <p:pic>
        <p:nvPicPr>
          <p:cNvPr id="245" name="Picture 5" descr=""/>
          <p:cNvPicPr/>
          <p:nvPr/>
        </p:nvPicPr>
        <p:blipFill>
          <a:blip r:embed="rId1"/>
          <a:stretch/>
        </p:blipFill>
        <p:spPr>
          <a:xfrm>
            <a:off x="1295280" y="1676520"/>
            <a:ext cx="6096240" cy="3590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Cập nhập giáo viên</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47" name="Picture 4" descr=""/>
          <p:cNvPicPr/>
          <p:nvPr/>
        </p:nvPicPr>
        <p:blipFill>
          <a:blip r:embed="rId1"/>
          <a:stretch/>
        </p:blipFill>
        <p:spPr>
          <a:xfrm>
            <a:off x="990720" y="1371600"/>
            <a:ext cx="693396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Thông tin lớp học</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49" name="Picture 5" descr=""/>
          <p:cNvPicPr/>
          <p:nvPr/>
        </p:nvPicPr>
        <p:blipFill>
          <a:blip r:embed="rId1"/>
          <a:stretch/>
        </p:blipFill>
        <p:spPr>
          <a:xfrm>
            <a:off x="304920" y="1371600"/>
            <a:ext cx="8610480" cy="45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0"/>
            <a:ext cx="9144000" cy="685800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ục tiêu đề tài</a:t>
            </a:r>
            <a:endParaRPr b="0" lang="en-US" sz="3600" spc="-1" strike="noStrike">
              <a:solidFill>
                <a:srgbClr val="000000"/>
              </a:solidFill>
              <a:latin typeface="Times New Roman"/>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Phần mềm quản lý trung tâm tin học cũng là một phần mềm có vai trò không nhỏ trong việc quản lý đăng ký dạy và học của giáo viên, học viên. nhờ có phần mềm này mà chúng ta có thể quản lý được các thông tin về giáo viên, học viên, lớp học, khoá học… và tìm kiếm các thông tin về điểm ..một cách nhanh chóng và chính xác mà không cần phải lưu trữ và dở sổ sách .</a:t>
            </a:r>
            <a:endParaRPr b="0" lang="en-US" sz="24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hính vì thế mục đích cơ bản của phàn mềm này là giúp nhân viên quản lý trung tâm một cách tốt nhất và ít tốn công sức nhấ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0" y="-360"/>
            <a:ext cx="9144000" cy="6629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Cập nhập khoá học</a:t>
            </a:r>
            <a:r>
              <a:rPr b="0" lang="en-US" sz="2600" spc="-1" strike="noStrike">
                <a:solidFill>
                  <a:srgbClr val="0000ff"/>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1" name="Picture 4" descr=""/>
          <p:cNvPicPr/>
          <p:nvPr/>
        </p:nvPicPr>
        <p:blipFill>
          <a:blip r:embed="rId1"/>
          <a:stretch/>
        </p:blipFill>
        <p:spPr>
          <a:xfrm>
            <a:off x="1066680" y="1523880"/>
            <a:ext cx="7315200" cy="434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Kết quả học tập</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3" name="Picture 6" descr=""/>
          <p:cNvPicPr/>
          <p:nvPr/>
        </p:nvPicPr>
        <p:blipFill>
          <a:blip r:embed="rId1"/>
          <a:stretch/>
        </p:blipFill>
        <p:spPr>
          <a:xfrm>
            <a:off x="457200" y="838080"/>
            <a:ext cx="8277120" cy="563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0" y="228600"/>
            <a:ext cx="9144000" cy="64008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Tìm kiếm thông tin học viên</a:t>
            </a:r>
            <a:r>
              <a:rPr b="0" lang="en-US" sz="2600" spc="-1" strike="noStrike">
                <a:solidFill>
                  <a:srgbClr val="0000ff"/>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5" name="Picture 4" descr=""/>
          <p:cNvPicPr/>
          <p:nvPr/>
        </p:nvPicPr>
        <p:blipFill>
          <a:blip r:embed="rId1"/>
          <a:stretch/>
        </p:blipFill>
        <p:spPr>
          <a:xfrm>
            <a:off x="1447920" y="1676520"/>
            <a:ext cx="6705360" cy="39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228240"/>
            <a:ext cx="8229600" cy="6172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ìm kiếm thông tin giáo viên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7" name="Picture 4" descr=""/>
          <p:cNvPicPr/>
          <p:nvPr/>
        </p:nvPicPr>
        <p:blipFill>
          <a:blip r:embed="rId1"/>
          <a:stretch/>
        </p:blipFill>
        <p:spPr>
          <a:xfrm>
            <a:off x="990720" y="1295280"/>
            <a:ext cx="7315200" cy="4648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304920"/>
            <a:ext cx="8229600" cy="5821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ìm kiếm điểm</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9" name="Picture 4" descr=""/>
          <p:cNvPicPr/>
          <p:nvPr/>
        </p:nvPicPr>
        <p:blipFill>
          <a:blip r:embed="rId1"/>
          <a:stretch/>
        </p:blipFill>
        <p:spPr>
          <a:xfrm>
            <a:off x="533520" y="1371600"/>
            <a:ext cx="8001000" cy="445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304920"/>
            <a:ext cx="8229600" cy="5821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bảng diểm theo lớp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61" name="Picture 4" descr=""/>
          <p:cNvPicPr/>
          <p:nvPr/>
        </p:nvPicPr>
        <p:blipFill>
          <a:blip r:embed="rId1"/>
          <a:stretch/>
        </p:blipFill>
        <p:spPr>
          <a:xfrm>
            <a:off x="1447920" y="10666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228600"/>
            <a:ext cx="8229600" cy="58975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Report bảng điểm học viên theo lớp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63" name="Picture 4" descr=""/>
          <p:cNvPicPr/>
          <p:nvPr/>
        </p:nvPicPr>
        <p:blipFill>
          <a:blip r:embed="rId1"/>
          <a:stretch/>
        </p:blipFill>
        <p:spPr>
          <a:xfrm>
            <a:off x="762120" y="1143000"/>
            <a:ext cx="77724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533160"/>
            <a:ext cx="8229600" cy="5592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nh sách học viên thi lại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65" name="Picture 4" descr=""/>
          <p:cNvPicPr/>
          <p:nvPr/>
        </p:nvPicPr>
        <p:blipFill>
          <a:blip r:embed="rId1"/>
          <a:stretch/>
        </p:blipFill>
        <p:spPr>
          <a:xfrm>
            <a:off x="228600" y="1295280"/>
            <a:ext cx="8305920" cy="43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456840"/>
            <a:ext cx="8229600" cy="56689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TỔNG KẾT</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Kết quả đạt được:</a:t>
            </a:r>
            <a:endParaRPr b="0" lang="en-US" sz="2600" spc="-1" strike="noStrike">
              <a:solidFill>
                <a:srgbClr val="000000"/>
              </a:solidFill>
              <a:latin typeface="Times New Roman"/>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Xây dựng được các chức năng:thêm,sửa, xoá, tìm kiếm,cập nhật về học viên, giáo viên, điểm, khoá học…</a:t>
            </a:r>
            <a:endParaRPr b="0" lang="en-US" sz="2600" spc="-1" strike="noStrike">
              <a:solidFill>
                <a:srgbClr val="000000"/>
              </a:solidFill>
              <a:latin typeface="Times New Roman"/>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ưa đạt được:</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hưa giới hạn được số học viên là 30hv trong 1 lớp</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228600"/>
            <a:ext cx="8229600" cy="58975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HƯỚNG PHÁT TRIỂN</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riển khai dữ liệu trên mạng để thuận tiện cho việc khai thác và tăng hiệu quả sử dụng thông tin.</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có thể áp dụng vào thực tế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Phân tích nghiệp vụ</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ọc viên đến đăng ký học</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ộ phận kế toán thu học phí và ghi biên lai</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ọc  viên mang biên lai đến ghi danh</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ân viên sẽ xếp lớp</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iáo viên đăng ký lớp dạy</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ân viên xếp lịch học</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ối khóa học nhân viên nhập điểm</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ung tâm cấp-phát chứng chỉ</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920"/>
            <a:ext cx="8458200" cy="5821200"/>
          </a:xfrm>
          <a:prstGeom prst="rect">
            <a:avLst/>
          </a:prstGeom>
          <a:noFill/>
          <a:ln w="0">
            <a:noFill/>
          </a:ln>
        </p:spPr>
        <p:txBody>
          <a:bodyPr anchor="t">
            <a:normAutofit/>
          </a:bodyPr>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ỜI CẢM ƠN</a:t>
            </a:r>
            <a:endParaRPr b="0" lang="en-US" sz="2000" spc="-1" strike="noStrike">
              <a:solidFill>
                <a:srgbClr val="000000"/>
              </a:solidFill>
              <a:latin typeface="Times New Roman"/>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húng em xin chân thành cảm ơn khoa Công nghệ thông tin, trường ĐH Công Nghiệp thành phố Hồ Chí Minh đã tạo điều kiện thuận lợi cho chúng em học tập và hoàn thành tốt đề tài này.</a:t>
            </a: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húng em xin bày tỏ lòng biết ơn sâu sắc đến thầy Nguyễn Đức Cương đã tận tình hướng dẫn, chỉ bảo chúng em trong suốt quá trình thực hiện đề tài.</a:t>
            </a: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húng em xin chân thành cảm ơn các thầy cô trong khoa Công nghệ thông tin đã tận tình giảng dạy, trang bị cho chúng em những kiến thức quý báu trong quá trình học tập tại trường đã đóng góp rất nhiều để hoàn thành đề tài.</a:t>
            </a: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Xin cảm ơn sự quan tâm, giúp đỡ, ủng hộ, động viên  của bạn bè trong quá trình học tập cũng như trong quá trình hoàn thành tiến độ đề tài ở từng giai đoạn.</a:t>
            </a:r>
            <a:endParaRPr b="0" lang="en-US" sz="2000" spc="-1" strike="noStrike">
              <a:solidFill>
                <a:srgbClr val="000000"/>
              </a:solidFill>
              <a:latin typeface="Times New Roman"/>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ặc dù đã cố gắng hoàn thành đề tài này trong khả năng cho phép nhưng do thời gian có hạn nên chắc chắn sẽ không tránh khỏi những thiếu sót. Chúng em rất mong nhận được sự thông cảm, góp ý tận tình chỉ bảo của  thầy cô và các bạn</a:t>
            </a:r>
            <a:r>
              <a:rPr b="0" i="1" lang="en-US" sz="2800" spc="-1" strike="noStrike">
                <a:solidFill>
                  <a:srgbClr val="0f6fc6"/>
                </a:solidFill>
                <a:latin typeface="Times New Roman"/>
              </a:rPr>
              <a:t>.</a:t>
            </a:r>
            <a:endParaRPr b="0" lang="en-US" sz="28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0" y="0"/>
            <a:ext cx="9144000" cy="6858000"/>
          </a:xfrm>
          <a:prstGeom prst="rect">
            <a:avLst/>
          </a:prstGeom>
          <a:noFill/>
          <a:ln w="0">
            <a:noFill/>
          </a:ln>
        </p:spPr>
        <p:txBody>
          <a:bodyPr anchor="t">
            <a:normAutofit/>
          </a:bodyPr>
          <a:p>
            <a:pPr marL="272880" indent="-2728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72880" indent="-2728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HÂN TÍCH VÀ THIẾT KẾ</a:t>
            </a:r>
            <a:endParaRPr b="0" lang="en-US" sz="4400" spc="-1" strike="noStrike">
              <a:solidFill>
                <a:srgbClr val="000000"/>
              </a:solidFill>
              <a:latin typeface="Times New Roman"/>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Xây dựng các đối tượng và các thông tin cần lưu trữ.</a:t>
            </a:r>
            <a:r>
              <a:rPr b="0" lang="en-US" sz="2600" spc="-1" strike="noStrike">
                <a:solidFill>
                  <a:srgbClr val="ff00ff"/>
                </a:solidFill>
                <a:latin typeface="Times New Roman"/>
              </a:rPr>
              <a:t> </a:t>
            </a:r>
            <a:endParaRPr b="0" lang="en-US" sz="2600" spc="-1" strike="noStrike">
              <a:solidFill>
                <a:srgbClr val="000000"/>
              </a:solidFill>
              <a:latin typeface="Times New Roman"/>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học viên</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giáo viên</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oá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lớp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òng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điểm</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ên lai</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môn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0"/>
            <a:ext cx="9144000" cy="6858000"/>
          </a:xfrm>
          <a:prstGeom prst="rect">
            <a:avLst/>
          </a:prstGeom>
          <a:noFill/>
          <a:ln w="0">
            <a:noFill/>
          </a:ln>
        </p:spPr>
        <p:txBody>
          <a:bodyPr anchor="t">
            <a:normAutofit/>
          </a:bodyPr>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ô hình Usecase</a:t>
            </a:r>
            <a:endParaRPr b="0" lang="en-US" sz="3600" spc="-1" strike="noStrike">
              <a:solidFill>
                <a:srgbClr val="000000"/>
              </a:solidFill>
              <a:latin typeface="Times New Roman"/>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ác định các tác nhân của hệ thống:</a:t>
            </a:r>
            <a:r>
              <a:rPr b="1" lang="en-US" sz="2800" spc="-1" strike="noStrike">
                <a:solidFill>
                  <a:srgbClr val="ff00ff"/>
                </a:solidFill>
                <a:latin typeface="Times New Roman"/>
              </a:rPr>
              <a:t> </a:t>
            </a:r>
            <a:endParaRPr b="0" lang="en-US" sz="2800" spc="-1" strike="noStrike">
              <a:solidFill>
                <a:srgbClr val="000000"/>
              </a:solidFill>
              <a:latin typeface="Times New Roman"/>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ệ thống có 2 tác nhân chính là: </a:t>
            </a:r>
            <a:endParaRPr b="0" lang="en-US" sz="24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hân viên </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ộ phận kế toán.</a:t>
            </a:r>
            <a:endParaRPr b="0" lang="en-US" sz="2100" spc="-1" strike="noStrike">
              <a:solidFill>
                <a:srgbClr val="000000"/>
              </a:solidFill>
              <a:latin typeface="Times New Roman"/>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ác định các usecase:</a:t>
            </a:r>
            <a:endParaRPr b="0" lang="en-US" sz="2400" spc="-1" strike="noStrike">
              <a:solidFill>
                <a:srgbClr val="000000"/>
              </a:solidFill>
              <a:latin typeface="Times New Roman"/>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ệ thống có 8 usecase là:</a:t>
            </a:r>
            <a:endParaRPr b="0" lang="en-US" sz="24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ông tin khoá học</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Xếp lớp</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Tìm kiếm</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Thống kê</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danh sách</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QL Cấp chứng chỉ</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Đăng nhập</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Viết biên lai</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USECASE  tổng quát:</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04" name="Picture 4" descr=""/>
          <p:cNvPicPr/>
          <p:nvPr/>
        </p:nvPicPr>
        <p:blipFill>
          <a:blip r:embed="rId1"/>
          <a:stretch/>
        </p:blipFill>
        <p:spPr>
          <a:xfrm>
            <a:off x="762120" y="990720"/>
            <a:ext cx="7391160" cy="53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0" y="0"/>
            <a:ext cx="86868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học viê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06" name="Picture 4" descr=""/>
          <p:cNvPicPr/>
          <p:nvPr/>
        </p:nvPicPr>
        <p:blipFill>
          <a:blip r:embed="rId1"/>
          <a:stretch/>
        </p:blipFill>
        <p:spPr>
          <a:xfrm>
            <a:off x="1371600" y="1981080"/>
            <a:ext cx="647712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giáo viê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08" name="Picture 4" descr=""/>
          <p:cNvPicPr/>
          <p:nvPr/>
        </p:nvPicPr>
        <p:blipFill>
          <a:blip r:embed="rId1"/>
          <a:stretch/>
        </p:blipFill>
        <p:spPr>
          <a:xfrm>
            <a:off x="1371600" y="1143000"/>
            <a:ext cx="678168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01:23:13Z</dcterms:created>
  <dc:creator>Nhan</dc:creator>
  <dc:description/>
  <dc:language>en-US</dc:language>
  <cp:lastModifiedBy>User</cp:lastModifiedBy>
  <dcterms:modified xsi:type="dcterms:W3CDTF">2009-05-04T17:16:59Z</dcterms:modified>
  <cp:revision>32</cp:revision>
  <dc:subject/>
  <dc:title>Slide 1</dc:title>
</cp:coreProperties>
</file>