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C077-DE51-4D48-A5D1-1C952E47A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75FB-D410-42F9-A6F0-DD6630E08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1616-F607-48C5-924E-EC60B7F44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B145-347C-44BE-8B0F-DDF77B64B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4BD60-CB3E-4123-8265-7361C7B7E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4D6B7-48BA-4221-AAC7-D0B41DACC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57155-D003-4A84-9752-9ADD01904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5E8BB-611D-49B3-991A-0229BC7A1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7D69B-3F4A-4BDC-86EE-7209638C0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8E584-649B-4646-B20B-B8B006883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782CB-F436-4E1E-94F8-18EAD47E3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A05A-4D70-416E-81B0-3045C099F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F44F2-35F6-4322-A88B-49A39B376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1D1C9-2AB9-42EB-A35A-EE94370F3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51248-8978-45BC-969D-9337724C2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34229-394A-4B4E-A39F-2A61EEA63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EE967-D643-450A-B4C9-040128176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14C1-8D23-4B7D-B80C-2973FF6B6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718A-FDBC-4592-82D2-575F038FB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CBA6-9FB7-4C0B-AFD4-20C5E6513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69AF-3AFD-4C23-AAD9-0583872D2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D667-6C7F-47A2-840B-43F2AA807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4AEF-8C54-452C-8685-BA4ED2EE1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9270-BAA7-4A2E-8746-18D87B6F5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B3639-2CF7-4DE1-8F4D-7FBC88D542D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3C401-CF29-4C67-B74B-58632B7E4C0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ÀI THỰC HÀNH PHÂN TÍCH XỬ LÝ ẢNH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848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2486160"/>
            <a:ext cx="787572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476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Đề tà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Đọc điểm từ bảng điể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6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6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áo viên hướng dẫn:  Thầy NGUYỄN HỮU QUỲN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6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6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h viên thực hiệ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6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guyễn Đức Lâ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6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guyễn Thùy Du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6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ê Thị Huế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6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6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en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Yêu cầu của bài thực hành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àm ứng dụng xử lý ảnh bằng C# đựa trên các kiến thức đã học và được thầy hướng dẫ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ó slide, báo cáo về chương trình của mình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Đủ code, file demo kèm theo chương trìn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ác nội dung chính của bài tập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22096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Đổi màu ản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àm mịn ản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ìm biên ản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Zoom theo các tỷ lệ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iến dạng ản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hương trình chính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447920" y="1981080"/>
            <a:ext cx="495288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Đổi màu ảnh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160" y="61722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mo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057400" y="1905120"/>
            <a:ext cx="496260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àm mịn ảnh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160" y="61722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mo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676520" y="1981080"/>
            <a:ext cx="4971960" cy="40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ìm biên ảnh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160" y="61722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mo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371600" y="1981080"/>
            <a:ext cx="495288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Zoo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160" y="61722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mo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498168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Biến dạng ảnh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160" y="61722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mo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49532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3T00:44:23Z</dcterms:created>
  <dc:creator>TRUNG TAM BAO HANH</dc:creator>
  <dc:description/>
  <dc:language>en-US</dc:language>
  <cp:lastModifiedBy>User</cp:lastModifiedBy>
  <dcterms:modified xsi:type="dcterms:W3CDTF">2009-10-26T18:02:00Z</dcterms:modified>
  <cp:revision>23</cp:revision>
  <dc:subject/>
  <dc:title>BÀI THỰC HÀNH PHÂN TÍCH XỬ LÝ ẢNH</dc:title>
</cp:coreProperties>
</file>