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58F-B036-4883-A7DA-7ABBB6B7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CD6-2816-4891-A487-4FEF1139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6C2-BADF-4424-8611-D8D80E77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F04-4343-40B3-A31E-F19D2F75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D104-6A47-4F24-AE53-37E5DC60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559-9E05-40D8-BD97-629E955B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1D27-0418-4843-9133-B2B0D71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905-1718-4524-A416-5CD60CEE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FB5-4271-4C57-A770-D0B7D2BD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387C-8599-4EC2-A7EC-BFA32CB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B378-BB79-4BE6-9A71-06771AB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267-DC21-4F36-AF1C-1702C661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C80A-115F-4556-8261-0A6C8352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582-5B4B-4001-A76A-C4EF141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5752-E31E-4F15-93DD-E2F747E3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D32-C16D-4245-987D-B6765DD9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A068-3451-4646-9467-D9318840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995-3629-4E60-B08E-E42A363F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18E-4BDF-48C5-85EC-72138CA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439-F201-4475-8882-A70F825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195-D7AC-4AC0-9DEE-9502AD20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6BA-5DDC-4B86-B47C-2D6D4E45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6F9-92D3-41B9-94A1-82F7DEF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21F-6215-4FC1-8683-B3EB24A6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4D3-A4D1-4C29-A323-4F6EA44E70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C8B-FE85-4F7A-AEA1-3B26F36E6E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ÀI THỰC HÀNH PHÂN TÍCH XỬ LÝ ẢN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486160"/>
            <a:ext cx="7875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Đề tà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Đọc điểm từ bảng đi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áo viên hướng dẫn:  Thầy NGUYỄN HỮU QUỲ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h viên thực hiệ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uyễn Đức Lâ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uyễn Thùy Du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ê Thị Hu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Yêu cầu của bài thực hàn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àm ứng dụng xử lý ảnh bằng C# đựa trên các kiến thức đã học và được thầy hướng dẫ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ó slide, báo cáo về chương trình của mìn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Đủ code, file demo kèm theo chương trì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ác nội dung chính của bài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Đổi màu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àm mịn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ìm biên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oom theo các tỷ l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ến dạng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ương trình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4952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Đổi màu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4962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àm mịn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49719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ìm biên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4952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o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4981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ến dạng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49532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0:44:23Z</dcterms:created>
  <dc:creator>TRUNG TAM BAO HANH</dc:creator>
  <dc:description/>
  <dc:language>en-US</dc:language>
  <cp:lastModifiedBy>User</cp:lastModifiedBy>
  <dcterms:modified xsi:type="dcterms:W3CDTF">2009-10-26T18:02:00Z</dcterms:modified>
  <cp:revision>23</cp:revision>
  <dc:subject/>
  <dc:title>BÀI THỰC HÀNH PHÂN TÍCH XỬ LÝ ẢNH</dc:title>
</cp:coreProperties>
</file>